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0189-EB44-4BA2-BFB9-CF327F64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6828-62B4-4CC2-B714-92C2A5F4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5B3D-B0C4-4784-BE48-E520EFDB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D41B-11DB-432A-A80B-EA429BC4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A0D1-2838-4464-BC03-F223FF4F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0514-EA82-4B58-8180-DC2060B5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3A5B-613F-4294-BCD7-33DBAC5F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9D6C-CF9F-4902-AF9C-72E4B1FA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EB95-CDCC-4D6F-BC0E-87B31306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2FEC-E1B1-48E7-9F87-4481D865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AD57-6AB6-41C3-9F9F-FF021584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0F21-C569-45C2-88BF-AF926D40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8DD5-ED76-4AFF-9B4F-AB1F28B88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fic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your 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five steps of the scientific method, in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onus: what i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to Sci. Me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three key components to all successful experi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9:18:21Z</dcterms:created>
  <dc:creator>Sussex County Public Schools</dc:creator>
  <dc:description/>
  <dc:language>en-US</dc:language>
  <cp:lastModifiedBy>Sussex County Public Schools</cp:lastModifiedBy>
  <dcterms:modified xsi:type="dcterms:W3CDTF">2005-09-12T19:18:39Z</dcterms:modified>
  <cp:revision>1</cp:revision>
  <dc:subject/>
  <dc:title>Scientific Method</dc:title>
</cp:coreProperties>
</file>